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30B7-BEF3-45D6-8663-D8F200C24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022F-5827-40AE-82CA-256DC671605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1941-4E35-4867-BD90-003BEE28D78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5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799C-2504-42F1-B272-77BECFE55F6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9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F0AD-F623-4303-A47E-CE60CA9E6B0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3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5D6C-3571-4633-A104-0767624EA14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7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7889-04FD-4ED7-8E60-E8E0D2B6E9C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1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4317-A41F-4AC8-8FE8-D27BE4FF694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B341-8D11-42DD-87AB-9FAAD7E8643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4B59-13DA-4651-A7A3-05FF7F662BB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95D8-B4DF-4CBF-8623-4C79E0750F0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7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18A1-8E18-4372-ACE7-725AF738518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1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F5BA-3217-4E51-AFBB-D00F28CFA1E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5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9CAE-D527-424F-88BB-682AFF40348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9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5CAD-F024-4F15-9063-E6BB54188D6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3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5AFE-CBF0-43A4-8336-548A9045EF4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7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ADCF-8201-4F2B-9FC0-7B180A69233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1" name="Header Placeholder 4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446-7C88-4702-A623-50F60262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FDE-E42E-4669-B41E-B9D5879F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992-7551-457C-8A1B-F7B9A403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C73-C711-426F-97C7-7EC4F6C0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83F7-B6E4-47D8-A09F-0FD0DB28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CA10-025D-4639-912A-33E00799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DDFE-2D30-4BA6-8CA0-088E1B71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435B-A6F4-40E8-AD0E-5B1E5BD9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34D3-1DFB-4745-9C41-DB815FE2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569E-D7A2-4E3E-A3F4-09C0340E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0AA7-D6FC-4B54-A1A7-D8EE117F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9DB-3BDA-4ED8-8FFE-4286DE34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CABD-B298-4194-87FC-74E4708D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B618-0268-4777-9B54-8ACD4089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47B2-E89A-4F1C-80A4-EB628B25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D07E-E97E-4693-9431-0C59A212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087E-A090-422E-94E5-B20B068F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EE8E-4047-4874-825F-D52D6792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8A52-201B-47D8-BC6E-5EF0C21A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1117-B72E-4559-8463-CC93737C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081A-E263-4764-B8CF-B6F1EFCB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0B19-8E63-4DBE-8F8B-EA2C4C1B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402-2CA8-4B95-B5E3-AB5B394D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6AFC-1494-404A-B005-41BBEADC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BC4E2-7552-459D-87CF-6AE574F0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CEF5-E196-49A1-BA12-BB1A6FE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0CEF-962C-4C84-89ED-D68FAB53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63FB-182D-4CC5-A5B9-BB05E772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7CB17-65B8-4695-8702-7C9904FF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2604-95B3-45B5-A751-2F1CB06B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BD162-74B0-424E-B29E-E61939BC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3FC04-512D-4D82-9841-D7D5D022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B2C64-C497-4CC9-87B5-70BE2E95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813-8D5F-40AF-AAA4-AB1751B3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B3C7-0A7E-427F-A304-F8E2E064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7178-CC9A-4F6E-864F-2D3F3B87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684D7-B380-422B-8AE7-D397CB64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33A1-B639-46CF-BAB0-328C85E8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7D30F-15A1-4E63-A21D-0C35B4E1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531E6-06FA-4960-9444-6A4538F6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2CB62-B56A-4820-8531-A0535700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3EE9-CEE4-46A6-9404-6B572A48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B91E4-A1B3-489E-8A8A-161BFCF5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9F4D6-2EB3-4575-86C6-062C24FA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718-8C2F-4DB5-BC7E-F62D2427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EC331-01AD-4BBD-8329-6583FFA2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7CC7F-7A9A-4310-8DCE-F1981F7F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EAEB7-7058-465E-8165-BE5ACE9E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01780-AFD3-480E-8620-2264B862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F1A69-252F-4D46-B29A-C8F96086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5DDD4-9BE3-4821-A41A-AED148E5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9B636-4442-4022-83DF-1031EC05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BA42D-4E5F-4302-A94D-2651F7AB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1A4CD-17E4-4034-86A6-67E6DA15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888F-C4B1-495A-9CC4-976347C1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BF7-691D-43BA-9D8B-4F4331C1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6DFEB-312C-40DF-8BC3-F5756128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D0159-CE94-49B9-A0E3-5D964BFE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CC380-5F5A-4DE1-AA5A-53EFF1BC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D2756-3F35-4F0A-B088-78C6AEC4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B516E-3321-451E-B5A4-D2FC9837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7FDB4-0458-47C1-A51E-A2D0468D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58DAA-2038-4230-A1EB-C087D9CE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B9627-4AC3-4961-9BC0-9DEE096F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7D59B-918C-4784-BD96-45E301C8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408AB-374D-4B73-8746-480E8111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993-0227-40A5-89E8-0C08E269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A6C60-B734-4A6E-B4CA-5E5935F1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057B6-93A2-4983-92C6-DF525F9B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BCF35-0660-4D72-83B0-F18EBF3C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DCE23-9273-4119-A3BA-2D949932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2F1C9-44D2-49C5-9A29-F3921A13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B58E-EA91-46C3-A25B-BDDBEC6E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FF6B4-09EC-452C-9EAB-F8D39BD8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56C12-F5DE-4C65-870D-DAABA2C5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25CAF-22D4-49CC-824D-F9E9FC66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20F85-9668-4A96-9736-9600CCE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E03-4DAB-4E11-91DB-E24908F1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6F70D-F7E3-4002-9FBD-899A6EF8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1B658-BA95-45A1-9650-93A097B5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2E086-B9FD-4580-9906-935BAC5B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1BC91-84AD-4DFD-A4EC-9F87CB55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483A6-D3DD-456D-A3F2-F6CCED55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E53-BC5C-4C51-9890-B72DDCEB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705A-BAE0-4DC9-9BDE-8FA4C952F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33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1091520" y="198108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cff"/>
                </a:solidFill>
                <a:latin typeface="Calibri"/>
              </a:rPr>
              <a:t>Introduction t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39cb7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41320" y="2590920"/>
            <a:ext cx="56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9cb7"/>
                </a:solidFill>
                <a:latin typeface="Calibri"/>
              </a:rPr>
              <a:t>Information Retrieval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3708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9D93-E700-4BAE-8F42-634164581DF2}" type="slidenum">
              <a:rPr b="0" lang="en-US" sz="1200" spc="-1" strike="noStrike">
                <a:solidFill>
                  <a:srgbClr val="43708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9913-B58A-481B-83CD-3D7807D7B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DE72-B627-4FE1-BB33-630B8C063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5CEA-A41A-4CEF-A2EA-0E891D266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5E85-4272-4C18-A1A8-534CFC5D7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C56F-1835-4DF8-9623-AE221EDD0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apted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37085"/>
                </a:solidFill>
                <a:latin typeface="Calibri"/>
                <a:ea typeface="Times New Roman"/>
              </a:rPr>
              <a:t>Christopher Manning and Prabhakar Raghav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37085"/>
                </a:solidFill>
                <a:latin typeface="Calibri"/>
              </a:rPr>
              <a:t>Dictionary ind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4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1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Line 37"/>
          <p:cNvSpPr/>
          <p:nvPr/>
        </p:nvSpPr>
        <p:spPr>
          <a:xfrm flipH="1" flipV="1">
            <a:off x="2438280" y="2742840"/>
            <a:ext cx="190512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Text Box 38"/>
          <p:cNvSpPr/>
          <p:nvPr/>
        </p:nvSpPr>
        <p:spPr>
          <a:xfrm>
            <a:off x="3277440" y="33019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Line 39"/>
          <p:cNvSpPr/>
          <p:nvPr/>
        </p:nvSpPr>
        <p:spPr>
          <a:xfrm flipH="1" flipV="1">
            <a:off x="2438280" y="2742840"/>
            <a:ext cx="190512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85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ckoo Hashing Exam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2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3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5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7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8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9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0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2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4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6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7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9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0" name="Line 31"/>
          <p:cNvSpPr/>
          <p:nvPr/>
        </p:nvSpPr>
        <p:spPr>
          <a:xfrm>
            <a:off x="2438280" y="2743200"/>
            <a:ext cx="35816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Line 32"/>
          <p:cNvSpPr/>
          <p:nvPr/>
        </p:nvSpPr>
        <p:spPr>
          <a:xfrm>
            <a:off x="4267080" y="2743200"/>
            <a:ext cx="763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2" name="Line 33"/>
          <p:cNvSpPr/>
          <p:nvPr/>
        </p:nvSpPr>
        <p:spPr>
          <a:xfrm flipH="1">
            <a:off x="3352680" y="2743200"/>
            <a:ext cx="2743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3" name="Line 34"/>
          <p:cNvSpPr/>
          <p:nvPr/>
        </p:nvSpPr>
        <p:spPr>
          <a:xfrm flipV="1">
            <a:off x="4191120" y="274284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Line 35"/>
          <p:cNvSpPr/>
          <p:nvPr/>
        </p:nvSpPr>
        <p:spPr>
          <a:xfrm flipH="1" flipV="1">
            <a:off x="24382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5" name="Line 36"/>
          <p:cNvSpPr/>
          <p:nvPr/>
        </p:nvSpPr>
        <p:spPr>
          <a:xfrm flipV="1">
            <a:off x="6019920" y="2819160"/>
            <a:ext cx="7596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6" name="Text Box 37"/>
          <p:cNvSpPr/>
          <p:nvPr/>
        </p:nvSpPr>
        <p:spPr>
          <a:xfrm>
            <a:off x="5410800" y="35053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Line 38"/>
          <p:cNvSpPr/>
          <p:nvPr/>
        </p:nvSpPr>
        <p:spPr>
          <a:xfrm flipH="1" flipV="1">
            <a:off x="4266720" y="2742840"/>
            <a:ext cx="175284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8" name="Rettangolo arrotondato 5"/>
          <p:cNvSpPr/>
          <p:nvPr/>
        </p:nvSpPr>
        <p:spPr>
          <a:xfrm>
            <a:off x="785880" y="5929200"/>
            <a:ext cx="8358120" cy="928800"/>
          </a:xfrm>
          <a:prstGeom prst="roundRect">
            <a:avLst>
              <a:gd name="adj" fmla="val 16667"/>
            </a:avLst>
          </a:prstGeom>
          <a:solidFill>
            <a:srgbClr val="984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Random (bipartite) graph: node=cell, edge=ke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ural Exten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More than 2 hashes (choices) per k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different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ypergraph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ead of graph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memory u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choices : 90+% in experi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 choices : about 9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2 hashes +  bins of B-siz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anced allocation and tightly O(1)-size bi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ion sees a tree of possible evict+ins p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6000840" y="3643200"/>
            <a:ext cx="3071880" cy="857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but more insert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(and random acce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286680" y="6072120"/>
            <a:ext cx="2857320" cy="78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ore memo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...but more loc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nimal Ordered Perfect Has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6EB8-F5FC-4421-BB7B-216FDB16B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5" name="TextBox 6"/>
          <p:cNvSpPr/>
          <p:nvPr/>
        </p:nvSpPr>
        <p:spPr>
          <a:xfrm>
            <a:off x="6480360" y="327672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 = 1.25 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Down Arrow 7"/>
          <p:cNvSpPr/>
          <p:nvPr/>
        </p:nvSpPr>
        <p:spPr>
          <a:xfrm>
            <a:off x="7086600" y="3809880"/>
            <a:ext cx="457200" cy="533520"/>
          </a:xfrm>
          <a:prstGeom prst="down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39748f"/>
              </a:gs>
              <a:gs pos="100000">
                <a:srgbClr val="afccdf"/>
              </a:gs>
            </a:gsLst>
            <a:lin ang="162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6329160" y="4419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=12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m=1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18" name="Picture 3" descr=""/>
          <p:cNvPicPr/>
          <p:nvPr/>
        </p:nvPicPr>
        <p:blipFill>
          <a:blip r:embed="rId1"/>
          <a:srcRect l="0" t="0" r="46030" b="12927"/>
          <a:stretch/>
        </p:blipFill>
        <p:spPr>
          <a:xfrm>
            <a:off x="733320" y="1685880"/>
            <a:ext cx="4143600" cy="4105440"/>
          </a:xfrm>
          <a:prstGeom prst="rect">
            <a:avLst/>
          </a:prstGeom>
          <a:ln w="0">
            <a:noFill/>
          </a:ln>
        </p:spPr>
      </p:pic>
      <p:sp>
        <p:nvSpPr>
          <p:cNvPr id="619" name="TextBox 8"/>
          <p:cNvSpPr/>
          <p:nvPr/>
        </p:nvSpPr>
        <p:spPr>
          <a:xfrm>
            <a:off x="2473920" y="5867280"/>
            <a:ext cx="632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Lucida Sans"/>
              </a:rPr>
              <a:t>The h</a:t>
            </a:r>
            <a:r>
              <a:rPr b="0" lang="it-IT" sz="3600" spc="-1" strike="noStrike" baseline="-25000">
                <a:solidFill>
                  <a:srgbClr val="ff0000"/>
                </a:solidFill>
                <a:latin typeface="Lucida Sans"/>
              </a:rPr>
              <a:t>1</a:t>
            </a:r>
            <a:r>
              <a:rPr b="0" lang="it-IT" sz="3600" spc="-1" strike="noStrike">
                <a:solidFill>
                  <a:srgbClr val="ff0000"/>
                </a:solidFill>
                <a:latin typeface="Lucida Sans"/>
              </a:rPr>
              <a:t> and h</a:t>
            </a:r>
            <a:r>
              <a:rPr b="0" lang="it-IT" sz="3600" spc="-1" strike="noStrike" baseline="-25000">
                <a:solidFill>
                  <a:srgbClr val="ff0000"/>
                </a:solidFill>
                <a:latin typeface="Lucida Sans"/>
              </a:rPr>
              <a:t>2</a:t>
            </a:r>
            <a:r>
              <a:rPr b="0" lang="it-IT" sz="3600" spc="-1" strike="noStrike">
                <a:solidFill>
                  <a:srgbClr val="ff0000"/>
                </a:solidFill>
                <a:latin typeface="Lucida Sans"/>
              </a:rPr>
              <a:t> are not perfec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(t) = [ g(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t) 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g (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t) ) ]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mod 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5469-974D-45F8-A04A-204324369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733320" y="1685880"/>
            <a:ext cx="7677360" cy="4714920"/>
          </a:xfrm>
          <a:prstGeom prst="rect">
            <a:avLst/>
          </a:prstGeom>
          <a:ln w="0">
            <a:noFill/>
          </a:ln>
        </p:spPr>
      </p:pic>
      <p:sp>
        <p:nvSpPr>
          <p:cNvPr id="623" name="TextBox 7"/>
          <p:cNvSpPr/>
          <p:nvPr/>
        </p:nvSpPr>
        <p:spPr>
          <a:xfrm>
            <a:off x="7023600" y="152388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Lucida Sans"/>
              </a:rPr>
              <a:t>comput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332640" y="6027840"/>
            <a:ext cx="7480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h is perfect, no strings need to be stor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Lucida Sans"/>
              </a:rPr>
              <a:t>space is negligible for </a:t>
            </a: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h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 and h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Lucida Sans"/>
              </a:rPr>
              <a:t>2 </a:t>
            </a:r>
            <a:r>
              <a:rPr b="1" lang="it-IT" sz="2400" spc="-1" strike="noStrike">
                <a:solidFill>
                  <a:srgbClr val="002060"/>
                </a:solidFill>
                <a:latin typeface="Lucida Sans"/>
              </a:rPr>
              <a:t>and m log n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for 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5" name="Curved Left Arrow 6"/>
          <p:cNvSpPr/>
          <p:nvPr/>
        </p:nvSpPr>
        <p:spPr>
          <a:xfrm>
            <a:off x="8381880" y="160020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0360 h 533520"/>
              <a:gd name="textAreaBottom" fmla="*/ 3859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29" stAng="-5400000" swAng="5400000"/>
                <a:lnTo>
                  <a:pt x="21600" y="11958"/>
                </a:lnTo>
                <a:arcTo wR="21600" hR="7329" stAng="0" swAng="3163700"/>
                <a:lnTo>
                  <a:pt x="5400" y="21367"/>
                </a:lnTo>
                <a:lnTo>
                  <a:pt x="0" y="16972"/>
                </a:lnTo>
                <a:lnTo>
                  <a:pt x="5400" y="12110"/>
                </a:lnTo>
                <a:lnTo>
                  <a:pt x="5400" y="14424"/>
                </a:lnTo>
                <a:arcTo wR="21600" hR="7329" stAng="3163700" swAng="-2777103"/>
                <a:lnTo>
                  <a:pt x="20494" y="9643"/>
                </a:lnTo>
                <a:arcTo wR="21600" hR="7329" stAng="-386597" swAng="-5013403"/>
                <a:close/>
              </a:path>
              <a:path fill="darkenLess" w="21600" h="21600">
                <a:moveTo>
                  <a:pt x="0" y="0"/>
                </a:moveTo>
                <a:arcTo wR="21600" hR="7329" stAng="-5400000" swAng="5400000"/>
                <a:lnTo>
                  <a:pt x="21600" y="11958"/>
                </a:lnTo>
                <a:arcTo wR="21600" hR="7329" stAng="0" swAng="-386597"/>
                <a:lnTo>
                  <a:pt x="20494" y="9643"/>
                </a:lnTo>
                <a:arcTo wR="21600" hR="7329" stAng="-386597" swAng="-5013403"/>
                <a:close/>
              </a:path>
            </a:pathLst>
          </a:custGeom>
          <a:solidFill>
            <a:srgbClr val="c0504d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How to construct 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50BB-FEE9-4B7F-928B-212CAD035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356440" cy="4952880"/>
          </a:xfrm>
          <a:prstGeom prst="rect">
            <a:avLst/>
          </a:prstGeom>
          <a:ln w="0">
            <a:noFill/>
          </a:ln>
        </p:spPr>
      </p:pic>
      <p:sp>
        <p:nvSpPr>
          <p:cNvPr id="629" name="TextBox 5"/>
          <p:cNvSpPr/>
          <p:nvPr/>
        </p:nvSpPr>
        <p:spPr>
          <a:xfrm>
            <a:off x="5862960" y="1447920"/>
            <a:ext cx="3233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Term = edge, its verti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re given by h1 and h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ll g(v)=0; then assign g(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by difference with known h(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cyclic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o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-Acycl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regenerate hash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2"/>
          <a:srcRect l="0" t="0" r="46030" b="12927"/>
          <a:stretch/>
        </p:blipFill>
        <p:spPr>
          <a:xfrm>
            <a:off x="5943600" y="4038480"/>
            <a:ext cx="2692440" cy="26672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"/>
          <p:cNvPicPr/>
          <p:nvPr/>
        </p:nvPicPr>
        <p:blipFill>
          <a:blip r:embed="rId3"/>
          <a:srcRect l="72830" t="0" r="0" b="0"/>
          <a:stretch/>
        </p:blipFill>
        <p:spPr>
          <a:xfrm>
            <a:off x="6172200" y="4114800"/>
            <a:ext cx="25146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refix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refix 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1f497d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8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ray of string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inter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5" name="Object 4"/>
          <p:cNvGraphicFramePr/>
          <p:nvPr/>
        </p:nvGraphicFramePr>
        <p:xfrm>
          <a:off x="181080" y="3552840"/>
          <a:ext cx="3219480" cy="196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3552840"/>
                    <a:ext cx="321948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Line 5"/>
          <p:cNvSpPr/>
          <p:nvPr/>
        </p:nvSpPr>
        <p:spPr>
          <a:xfrm>
            <a:off x="2892600" y="416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Line 6"/>
          <p:cNvSpPr/>
          <p:nvPr/>
        </p:nvSpPr>
        <p:spPr>
          <a:xfrm flipV="1">
            <a:off x="3578400" y="3406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9" name="Line 7"/>
          <p:cNvSpPr/>
          <p:nvPr/>
        </p:nvSpPr>
        <p:spPr>
          <a:xfrm flipH="1" flipV="1">
            <a:off x="2739600" y="31021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Line 8"/>
          <p:cNvSpPr/>
          <p:nvPr/>
        </p:nvSpPr>
        <p:spPr>
          <a:xfrm>
            <a:off x="2892600" y="447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1" name="Line 9"/>
          <p:cNvSpPr/>
          <p:nvPr/>
        </p:nvSpPr>
        <p:spPr>
          <a:xfrm flipV="1">
            <a:off x="3882960" y="3330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2" name="Line 10"/>
          <p:cNvSpPr/>
          <p:nvPr/>
        </p:nvSpPr>
        <p:spPr>
          <a:xfrm flipH="1" flipV="1">
            <a:off x="3492000" y="2204640"/>
            <a:ext cx="390600" cy="112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Line 11"/>
          <p:cNvSpPr/>
          <p:nvPr/>
        </p:nvSpPr>
        <p:spPr>
          <a:xfrm>
            <a:off x="2892600" y="4854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Line 12"/>
          <p:cNvSpPr/>
          <p:nvPr/>
        </p:nvSpPr>
        <p:spPr>
          <a:xfrm flipV="1">
            <a:off x="4340160" y="2421000"/>
            <a:ext cx="736560" cy="243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5" name="Line 13"/>
          <p:cNvSpPr/>
          <p:nvPr/>
        </p:nvSpPr>
        <p:spPr>
          <a:xfrm>
            <a:off x="2892600" y="531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Line 14"/>
          <p:cNvSpPr/>
          <p:nvPr/>
        </p:nvSpPr>
        <p:spPr>
          <a:xfrm flipV="1">
            <a:off x="5178600" y="3716280"/>
            <a:ext cx="1122120" cy="15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Rectangle 17"/>
          <p:cNvSpPr/>
          <p:nvPr/>
        </p:nvSpPr>
        <p:spPr>
          <a:xfrm>
            <a:off x="2557080" y="2746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ysti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Rectangle 18"/>
          <p:cNvSpPr/>
          <p:nvPr/>
        </p:nvSpPr>
        <p:spPr>
          <a:xfrm>
            <a:off x="3314160" y="184464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yzygeti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9" name="Rectangle 19"/>
          <p:cNvSpPr/>
          <p:nvPr/>
        </p:nvSpPr>
        <p:spPr>
          <a:xfrm>
            <a:off x="4908960" y="20239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yzygi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0" name="Rectangle 20"/>
          <p:cNvSpPr/>
          <p:nvPr/>
        </p:nvSpPr>
        <p:spPr>
          <a:xfrm>
            <a:off x="6143760" y="335592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yzyg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1" name="Rectangle 22"/>
          <p:cNvSpPr/>
          <p:nvPr/>
        </p:nvSpPr>
        <p:spPr>
          <a:xfrm>
            <a:off x="36360" y="3429000"/>
            <a:ext cx="223200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2" name="AutoShape 23"/>
          <p:cNvSpPr/>
          <p:nvPr/>
        </p:nvSpPr>
        <p:spPr>
          <a:xfrm>
            <a:off x="3000240" y="4929120"/>
            <a:ext cx="6143760" cy="19288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earch = O(P * log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K) time, O(log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K)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I/Os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pace = N + 4K by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/O = cache misses 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(esp. range search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String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1f497d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480680" y="4245120"/>
            <a:ext cx="31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8000"/>
                </a:solidFill>
                <a:latin typeface="Comic Sans MS"/>
              </a:rPr>
              <a:t>Hashing ? 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8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duce I/Os: Force some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loca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1978560" y="2527200"/>
            <a:ext cx="62964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systile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yzyg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zygial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yzy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55" name="Object 4"/>
          <p:cNvGraphicFramePr/>
          <p:nvPr/>
        </p:nvGraphicFramePr>
        <p:xfrm>
          <a:off x="819000" y="3532320"/>
          <a:ext cx="3170520" cy="195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532320"/>
                    <a:ext cx="317052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Line 5"/>
          <p:cNvSpPr/>
          <p:nvPr/>
        </p:nvSpPr>
        <p:spPr>
          <a:xfrm>
            <a:off x="3497400" y="414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Line 6"/>
          <p:cNvSpPr/>
          <p:nvPr/>
        </p:nvSpPr>
        <p:spPr>
          <a:xfrm flipV="1">
            <a:off x="4183200" y="337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9" name="Line 7"/>
          <p:cNvSpPr/>
          <p:nvPr/>
        </p:nvSpPr>
        <p:spPr>
          <a:xfrm flipH="1" flipV="1">
            <a:off x="2627280" y="2997360"/>
            <a:ext cx="1555920" cy="38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0" name="Line 8"/>
          <p:cNvSpPr/>
          <p:nvPr/>
        </p:nvSpPr>
        <p:spPr>
          <a:xfrm>
            <a:off x="3497400" y="444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Line 9"/>
          <p:cNvSpPr/>
          <p:nvPr/>
        </p:nvSpPr>
        <p:spPr>
          <a:xfrm flipV="1">
            <a:off x="4487760" y="3303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2" name="Line 10"/>
          <p:cNvSpPr/>
          <p:nvPr/>
        </p:nvSpPr>
        <p:spPr>
          <a:xfrm flipH="1" flipV="1">
            <a:off x="3708000" y="3068280"/>
            <a:ext cx="77940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3" name="Line 11"/>
          <p:cNvSpPr/>
          <p:nvPr/>
        </p:nvSpPr>
        <p:spPr>
          <a:xfrm>
            <a:off x="3497400" y="4827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4" name="Line 12"/>
          <p:cNvSpPr/>
          <p:nvPr/>
        </p:nvSpPr>
        <p:spPr>
          <a:xfrm flipV="1">
            <a:off x="4944960" y="3068640"/>
            <a:ext cx="274680" cy="175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5" name="Line 13"/>
          <p:cNvSpPr/>
          <p:nvPr/>
        </p:nvSpPr>
        <p:spPr>
          <a:xfrm>
            <a:off x="3497400" y="5284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6" name="Line 14"/>
          <p:cNvSpPr/>
          <p:nvPr/>
        </p:nvSpPr>
        <p:spPr>
          <a:xfrm flipV="1">
            <a:off x="5783400" y="3068640"/>
            <a:ext cx="733320" cy="221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625320" y="3257640"/>
            <a:ext cx="2232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2585520" y="213372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Comic Sans MS"/>
              </a:rPr>
              <a:t>sorted order + linear sto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9" name="AutoShape 23"/>
          <p:cNvSpPr/>
          <p:nvPr/>
        </p:nvSpPr>
        <p:spPr>
          <a:xfrm>
            <a:off x="3214800" y="5357880"/>
            <a:ext cx="5860800" cy="150012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2 advantage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ave random I/Os in last binary-step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/O-scan in reporting range-resul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AutoShape 22"/>
          <p:cNvSpPr/>
          <p:nvPr/>
        </p:nvSpPr>
        <p:spPr>
          <a:xfrm>
            <a:off x="0" y="5518080"/>
            <a:ext cx="3071880" cy="1295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How do we reduc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pace storage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ace + I/O reduction: Buck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1481400" y="2349360"/>
            <a:ext cx="761580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zygetic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zygial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zygy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73" name="Object 5"/>
          <p:cNvGraphicFramePr/>
          <p:nvPr/>
        </p:nvGraphicFramePr>
        <p:xfrm>
          <a:off x="147600" y="3556080"/>
          <a:ext cx="3317760" cy="23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3556080"/>
                    <a:ext cx="331776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Line 6"/>
          <p:cNvSpPr/>
          <p:nvPr/>
        </p:nvSpPr>
        <p:spPr>
          <a:xfrm>
            <a:off x="2743200" y="410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Line 7"/>
          <p:cNvSpPr/>
          <p:nvPr/>
        </p:nvSpPr>
        <p:spPr>
          <a:xfrm flipV="1">
            <a:off x="3505320" y="3416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Line 8"/>
          <p:cNvSpPr/>
          <p:nvPr/>
        </p:nvSpPr>
        <p:spPr>
          <a:xfrm flipH="1" flipV="1">
            <a:off x="1981080" y="273024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Line 9"/>
          <p:cNvSpPr/>
          <p:nvPr/>
        </p:nvSpPr>
        <p:spPr>
          <a:xfrm>
            <a:off x="2771640" y="4508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Line 10"/>
          <p:cNvSpPr/>
          <p:nvPr/>
        </p:nvSpPr>
        <p:spPr>
          <a:xfrm flipV="1">
            <a:off x="5580000" y="2714400"/>
            <a:ext cx="63720" cy="17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Rectangle 13"/>
          <p:cNvSpPr/>
          <p:nvPr/>
        </p:nvSpPr>
        <p:spPr>
          <a:xfrm>
            <a:off x="0" y="3357720"/>
            <a:ext cx="2232000" cy="25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AutoShape 16"/>
          <p:cNvSpPr/>
          <p:nvPr/>
        </p:nvSpPr>
        <p:spPr>
          <a:xfrm>
            <a:off x="2627280" y="5373720"/>
            <a:ext cx="6516720" cy="14842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2 further advantage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earch = O(log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b) I/Os, where b ≈ N/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pace = (N + K) + 4 * b  by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1785960" y="2214720"/>
            <a:ext cx="3643200" cy="785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Rectangle 14"/>
          <p:cNvSpPr/>
          <p:nvPr/>
        </p:nvSpPr>
        <p:spPr>
          <a:xfrm>
            <a:off x="5500800" y="2214720"/>
            <a:ext cx="3214440" cy="785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4" name="TextBox 15"/>
          <p:cNvSpPr/>
          <p:nvPr/>
        </p:nvSpPr>
        <p:spPr>
          <a:xfrm>
            <a:off x="3345120" y="16304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5" name="TextBox 16"/>
          <p:cNvSpPr/>
          <p:nvPr/>
        </p:nvSpPr>
        <p:spPr>
          <a:xfrm>
            <a:off x="6702480" y="16430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Space reduction: Front-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691200" y="3521160"/>
            <a:ext cx="31464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Natural/Washcloth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538200" y="3449520"/>
            <a:ext cx="3744720" cy="2950920"/>
            <a:chOff x="538200" y="3449520"/>
            <a:chExt cx="3744720" cy="2950920"/>
          </a:xfrm>
        </p:grpSpPr>
        <p:sp>
          <p:nvSpPr>
            <p:cNvPr id="689" name="Rectangle 6"/>
            <p:cNvSpPr/>
            <p:nvPr/>
          </p:nvSpPr>
          <p:spPr>
            <a:xfrm>
              <a:off x="538200" y="3449520"/>
              <a:ext cx="3744720" cy="2087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0" name="Rectangle 7"/>
            <p:cNvSpPr/>
            <p:nvPr/>
          </p:nvSpPr>
          <p:spPr>
            <a:xfrm>
              <a:off x="538200" y="5608440"/>
              <a:ext cx="3744720" cy="792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91" name="Text Box 8"/>
          <p:cNvSpPr/>
          <p:nvPr/>
        </p:nvSpPr>
        <p:spPr>
          <a:xfrm>
            <a:off x="5295600" y="3160800"/>
            <a:ext cx="22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99"/>
                </a:solidFill>
                <a:latin typeface="Lucida Sans"/>
              </a:rPr>
              <a:t>0    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42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92" name="Group 13"/>
          <p:cNvGrpSpPr/>
          <p:nvPr/>
        </p:nvGrpSpPr>
        <p:grpSpPr>
          <a:xfrm>
            <a:off x="4376160" y="3159000"/>
            <a:ext cx="4299480" cy="2555640"/>
            <a:chOff x="4376160" y="3159000"/>
            <a:chExt cx="4299480" cy="2555640"/>
          </a:xfrm>
        </p:grpSpPr>
        <p:grpSp>
          <p:nvGrpSpPr>
            <p:cNvPr id="693" name="Group 14"/>
            <p:cNvGrpSpPr/>
            <p:nvPr/>
          </p:nvGrpSpPr>
          <p:grpSpPr>
            <a:xfrm>
              <a:off x="4376160" y="3159000"/>
              <a:ext cx="4299480" cy="2555640"/>
              <a:chOff x="4376160" y="3159000"/>
              <a:chExt cx="4299480" cy="2555640"/>
            </a:xfrm>
          </p:grpSpPr>
          <p:sp>
            <p:nvSpPr>
              <p:cNvPr id="694" name="Rectangle 15"/>
              <p:cNvSpPr/>
              <p:nvPr/>
            </p:nvSpPr>
            <p:spPr>
              <a:xfrm>
                <a:off x="5218200" y="3160440"/>
                <a:ext cx="3440160" cy="2017800"/>
              </a:xfrm>
              <a:prstGeom prst="rect">
                <a:avLst/>
              </a:pr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95" name="AutoShape 16"/>
              <p:cNvSpPr/>
              <p:nvPr/>
            </p:nvSpPr>
            <p:spPr>
              <a:xfrm>
                <a:off x="4425840" y="3466800"/>
                <a:ext cx="720720" cy="977760"/>
              </a:xfrm>
              <a:prstGeom prst="rightArrow">
                <a:avLst>
                  <a:gd name="adj1" fmla="val 41065"/>
                  <a:gd name="adj2" fmla="val 21597"/>
                </a:avLst>
              </a:prstGeom>
              <a:solidFill>
                <a:srgbClr val="4370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96" name="Text Box 17"/>
              <p:cNvSpPr/>
              <p:nvPr/>
            </p:nvSpPr>
            <p:spPr>
              <a:xfrm>
                <a:off x="4376160" y="3159000"/>
                <a:ext cx="83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33</a:t>
                </a:r>
                <a:r>
                  <a:rPr b="0" lang="it-IT" sz="1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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45%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97" name="Rectangle 18"/>
              <p:cNvSpPr/>
              <p:nvPr/>
            </p:nvSpPr>
            <p:spPr>
              <a:xfrm>
                <a:off x="5218200" y="5211360"/>
                <a:ext cx="3457440" cy="5032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698" name="Text Box 19"/>
            <p:cNvSpPr/>
            <p:nvPr/>
          </p:nvSpPr>
          <p:spPr>
            <a:xfrm>
              <a:off x="5319360" y="5249520"/>
              <a:ext cx="3137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99"/>
                  </a:solidFill>
                  <a:latin typeface="Lucida Sans"/>
                </a:rPr>
                <a:t>0    http://checkmate.com/All/Natural/Washcloth.html</a:t>
              </a:r>
              <a:r>
                <a:rPr b="0" lang="it-IT" sz="900" spc="-1" strike="noStrike">
                  <a:solidFill>
                    <a:srgbClr val="000000"/>
                  </a:solidFill>
                  <a:latin typeface="Lucida Sans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99" name="Text Box 20"/>
          <p:cNvSpPr/>
          <p:nvPr/>
        </p:nvSpPr>
        <p:spPr>
          <a:xfrm>
            <a:off x="537840" y="2252520"/>
            <a:ext cx="66031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systile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yzyget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zygial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yzy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00" name="Group 27"/>
          <p:cNvGrpSpPr/>
          <p:nvPr/>
        </p:nvGrpSpPr>
        <p:grpSpPr>
          <a:xfrm>
            <a:off x="2263320" y="2265480"/>
            <a:ext cx="4035960" cy="1029600"/>
            <a:chOff x="2263320" y="2265480"/>
            <a:chExt cx="4035960" cy="1029600"/>
          </a:xfrm>
        </p:grpSpPr>
        <p:sp>
          <p:nvSpPr>
            <p:cNvPr id="701" name="Rectangle 21"/>
            <p:cNvSpPr/>
            <p:nvPr/>
          </p:nvSpPr>
          <p:spPr>
            <a:xfrm>
              <a:off x="2268360" y="2265480"/>
              <a:ext cx="35892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2" name="Rectangle 22"/>
            <p:cNvSpPr/>
            <p:nvPr/>
          </p:nvSpPr>
          <p:spPr>
            <a:xfrm>
              <a:off x="3924360" y="2265480"/>
              <a:ext cx="93492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3" name="Rectangle 23"/>
            <p:cNvSpPr/>
            <p:nvPr/>
          </p:nvSpPr>
          <p:spPr>
            <a:xfrm>
              <a:off x="5364000" y="2265480"/>
              <a:ext cx="93528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4" name="Text Box 24"/>
            <p:cNvSpPr/>
            <p:nvPr/>
          </p:nvSpPr>
          <p:spPr>
            <a:xfrm>
              <a:off x="2263320" y="2835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5" name="Text Box 25"/>
            <p:cNvSpPr/>
            <p:nvPr/>
          </p:nvSpPr>
          <p:spPr>
            <a:xfrm>
              <a:off x="4206600" y="2768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6" name="Text Box 26"/>
            <p:cNvSpPr/>
            <p:nvPr/>
          </p:nvSpPr>
          <p:spPr>
            <a:xfrm>
              <a:off x="5646600" y="2768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07" name="AutoShape 29"/>
          <p:cNvSpPr/>
          <p:nvPr/>
        </p:nvSpPr>
        <p:spPr>
          <a:xfrm>
            <a:off x="5327640" y="6094440"/>
            <a:ext cx="37450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Gzip may be much better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ution #1: Bucketing + F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1464480" y="2349360"/>
            <a:ext cx="7121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 c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al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710" name="Object 5"/>
          <p:cNvGraphicFramePr/>
          <p:nvPr/>
        </p:nvGraphicFramePr>
        <p:xfrm>
          <a:off x="147600" y="3556080"/>
          <a:ext cx="3317760" cy="23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3556080"/>
                    <a:ext cx="331776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Line 6"/>
          <p:cNvSpPr/>
          <p:nvPr/>
        </p:nvSpPr>
        <p:spPr>
          <a:xfrm>
            <a:off x="2743200" y="410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Line 7"/>
          <p:cNvSpPr/>
          <p:nvPr/>
        </p:nvSpPr>
        <p:spPr>
          <a:xfrm flipV="1">
            <a:off x="3505320" y="3416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4" name="Line 8"/>
          <p:cNvSpPr/>
          <p:nvPr/>
        </p:nvSpPr>
        <p:spPr>
          <a:xfrm flipH="1" flipV="1">
            <a:off x="1981080" y="273024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5" name="Line 9"/>
          <p:cNvSpPr/>
          <p:nvPr/>
        </p:nvSpPr>
        <p:spPr>
          <a:xfrm flipV="1">
            <a:off x="2771640" y="4495680"/>
            <a:ext cx="23338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6" name="Line 10"/>
          <p:cNvSpPr/>
          <p:nvPr/>
        </p:nvSpPr>
        <p:spPr>
          <a:xfrm flipV="1">
            <a:off x="5105520" y="2714760"/>
            <a:ext cx="0" cy="17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7" name="Rectangle 13"/>
          <p:cNvSpPr/>
          <p:nvPr/>
        </p:nvSpPr>
        <p:spPr>
          <a:xfrm>
            <a:off x="0" y="3357720"/>
            <a:ext cx="2232000" cy="25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8" name="AutoShape 16"/>
          <p:cNvSpPr/>
          <p:nvPr/>
        </p:nvSpPr>
        <p:spPr>
          <a:xfrm>
            <a:off x="3071880" y="5373720"/>
            <a:ext cx="6072120" cy="14842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earch = O(log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b) I/Os , where b ≈ N/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pace ≈ ( FC(D) + K ) + 4 * b  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Line 17"/>
          <p:cNvSpPr/>
          <p:nvPr/>
        </p:nvSpPr>
        <p:spPr>
          <a:xfrm>
            <a:off x="4724280" y="5064120"/>
            <a:ext cx="133560" cy="1079640"/>
          </a:xfrm>
          <a:prstGeom prst="line">
            <a:avLst/>
          </a:prstGeom>
          <a:ln w="66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3309840" y="463392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Lucida Sans"/>
              </a:rPr>
              <a:t>Not really FC(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1" name="Rectangle 17"/>
          <p:cNvSpPr/>
          <p:nvPr/>
        </p:nvSpPr>
        <p:spPr>
          <a:xfrm>
            <a:off x="1785960" y="2214720"/>
            <a:ext cx="3090960" cy="785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4952880" y="2214720"/>
            <a:ext cx="3476880" cy="785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3" name="TextBox 19"/>
          <p:cNvSpPr/>
          <p:nvPr/>
        </p:nvSpPr>
        <p:spPr>
          <a:xfrm>
            <a:off x="3273480" y="16304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4" name="TextBox 20"/>
          <p:cNvSpPr/>
          <p:nvPr/>
        </p:nvSpPr>
        <p:spPr>
          <a:xfrm>
            <a:off x="6631200" y="16430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5" name="Line 17"/>
          <p:cNvSpPr/>
          <p:nvPr/>
        </p:nvSpPr>
        <p:spPr>
          <a:xfrm flipH="1">
            <a:off x="5571720" y="4635360"/>
            <a:ext cx="2009880" cy="1008360"/>
          </a:xfrm>
          <a:prstGeom prst="line">
            <a:avLst/>
          </a:prstGeom>
          <a:ln w="66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5791320" y="42670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Lucida Sans"/>
              </a:rPr>
              <a:t>depends on D’s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e: speeding-up sear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729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31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732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3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34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5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36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737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8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39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740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1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42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3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4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5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46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747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8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9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50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751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2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53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754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5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56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757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8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59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760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1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62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763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4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65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766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7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68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9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70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771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2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73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4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5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6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77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778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9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80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1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2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3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4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5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6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7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8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9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0" name="AutoShape 16"/>
          <p:cNvSpPr/>
          <p:nvPr/>
        </p:nvSpPr>
        <p:spPr>
          <a:xfrm>
            <a:off x="3643200" y="585792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ro:  O(p) search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: edge + node labels and tree struc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4"/>
          <p:cNvSpPr/>
          <p:nvPr/>
        </p:nvSpPr>
        <p:spPr>
          <a:xfrm>
            <a:off x="1452600" y="5992920"/>
            <a:ext cx="7121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 c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al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17375e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2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c0504d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3" name="Text Box 50"/>
          <p:cNvSpPr/>
          <p:nvPr/>
        </p:nvSpPr>
        <p:spPr>
          <a:xfrm>
            <a:off x="2124000" y="4363920"/>
            <a:ext cx="18734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4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5" name="Text Box 53"/>
          <p:cNvSpPr/>
          <p:nvPr/>
        </p:nvSpPr>
        <p:spPr>
          <a:xfrm>
            <a:off x="2266920" y="3255840"/>
            <a:ext cx="1634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ution #2: 2-level index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7" name="Group 64"/>
          <p:cNvGrpSpPr/>
          <p:nvPr/>
        </p:nvGrpSpPr>
        <p:grpSpPr>
          <a:xfrm>
            <a:off x="434520" y="3068640"/>
            <a:ext cx="1380240" cy="3473280"/>
            <a:chOff x="434520" y="3068640"/>
            <a:chExt cx="1380240" cy="3473280"/>
          </a:xfrm>
        </p:grpSpPr>
        <p:sp>
          <p:nvSpPr>
            <p:cNvPr id="798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9" name="Text Box 54"/>
            <p:cNvSpPr/>
            <p:nvPr/>
          </p:nvSpPr>
          <p:spPr>
            <a:xfrm>
              <a:off x="434520" y="3068640"/>
              <a:ext cx="1380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00" name="Text Box 59"/>
          <p:cNvSpPr/>
          <p:nvPr/>
        </p:nvSpPr>
        <p:spPr>
          <a:xfrm>
            <a:off x="4460400" y="3357720"/>
            <a:ext cx="46825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dis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ampling rate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lengths of sampled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1" name="Line 63"/>
          <p:cNvSpPr/>
          <p:nvPr/>
        </p:nvSpPr>
        <p:spPr>
          <a:xfrm flipV="1">
            <a:off x="5800680" y="6171840"/>
            <a:ext cx="1666800" cy="42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2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3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4" name="Text Box 59"/>
          <p:cNvSpPr/>
          <p:nvPr/>
        </p:nvSpPr>
        <p:spPr>
          <a:xfrm>
            <a:off x="4572000" y="1857240"/>
            <a:ext cx="37468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pace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Front-coding over bucket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5" name="Rectangle 19"/>
          <p:cNvSpPr/>
          <p:nvPr/>
        </p:nvSpPr>
        <p:spPr>
          <a:xfrm>
            <a:off x="1857240" y="5857920"/>
            <a:ext cx="3019680" cy="785880"/>
          </a:xfrm>
          <a:prstGeom prst="rect">
            <a:avLst/>
          </a:prstGeom>
          <a:noFill/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6" name="Rectangle 20"/>
          <p:cNvSpPr/>
          <p:nvPr/>
        </p:nvSpPr>
        <p:spPr>
          <a:xfrm>
            <a:off x="5000760" y="5857920"/>
            <a:ext cx="3214440" cy="785880"/>
          </a:xfrm>
          <a:prstGeom prst="rect">
            <a:avLst/>
          </a:prstGeom>
          <a:noFill/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7" name="Line 62"/>
          <p:cNvSpPr/>
          <p:nvPr/>
        </p:nvSpPr>
        <p:spPr>
          <a:xfrm>
            <a:off x="1911240" y="6215040"/>
            <a:ext cx="7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Hashing with chai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14200" y="1852560"/>
            <a:ext cx="8715600" cy="44341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"/>
          <p:cNvSpPr/>
          <p:nvPr/>
        </p:nvSpPr>
        <p:spPr>
          <a:xfrm>
            <a:off x="5786280" y="2638440"/>
            <a:ext cx="307188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Key issue: </a:t>
            </a:r>
            <a:r>
              <a:rPr b="0" i="1" lang="it-IT" sz="4000" spc="-1" strike="noStrike">
                <a:solidFill>
                  <a:srgbClr val="000000"/>
                </a:solidFill>
                <a:latin typeface="Calibri"/>
              </a:rPr>
              <a:t>a good hash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102680" y="1744560"/>
            <a:ext cx="606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0000"/>
                </a:solidFill>
                <a:uFillTx/>
                <a:latin typeface="Calibri"/>
              </a:rPr>
              <a:t>Basic assumption:</a:t>
            </a: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iform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14200" y="3030480"/>
            <a:ext cx="8786880" cy="14810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7"/>
          <p:cNvSpPr/>
          <p:nvPr/>
        </p:nvSpPr>
        <p:spPr>
          <a:xfrm>
            <a:off x="34920" y="503244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f497d"/>
                </a:solidFill>
                <a:latin typeface="Comic Sans MS"/>
                <a:ea typeface="Arial Unicode MS"/>
              </a:rPr>
              <a:t>Avg #keys per slot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= n * (1/m)  = n/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=</a:t>
            </a:r>
            <a:r>
              <a:rPr b="0" lang="it-IT" sz="2800" spc="-1" strike="noStrike">
                <a:solidFill>
                  <a:srgbClr val="1f497d"/>
                </a:solidFill>
                <a:latin typeface="Comic Sans MS"/>
                <a:ea typeface="Arial Unicode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>
                <a:solidFill>
                  <a:srgbClr val="1f497d"/>
                </a:solidFill>
                <a:latin typeface="Symbol"/>
                <a:ea typeface="Symbol"/>
              </a:rPr>
              <a:t>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(load factor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250920" y="5143680"/>
            <a:ext cx="8424720" cy="13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5" name="Group 11"/>
          <p:cNvGrpSpPr/>
          <p:nvPr/>
        </p:nvGrpSpPr>
        <p:grpSpPr>
          <a:xfrm>
            <a:off x="4000680" y="3500280"/>
            <a:ext cx="2928600" cy="500400"/>
            <a:chOff x="4000680" y="3500280"/>
            <a:chExt cx="2928600" cy="500400"/>
          </a:xfrm>
        </p:grpSpPr>
        <p:sp>
          <p:nvSpPr>
            <p:cNvPr id="336" name="Straight Connector 9"/>
            <p:cNvSpPr/>
            <p:nvPr/>
          </p:nvSpPr>
          <p:spPr>
            <a:xfrm>
              <a:off x="4000680" y="350028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Straight Connector 10"/>
            <p:cNvSpPr/>
            <p:nvPr/>
          </p:nvSpPr>
          <p:spPr>
            <a:xfrm>
              <a:off x="4500720" y="400068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Search c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557280" y="1838160"/>
            <a:ext cx="8029440" cy="318168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7"/>
          <p:cNvGrpSpPr/>
          <p:nvPr/>
        </p:nvGrpSpPr>
        <p:grpSpPr>
          <a:xfrm>
            <a:off x="880920" y="5715000"/>
            <a:ext cx="7120080" cy="1071720"/>
            <a:chOff x="880920" y="5715000"/>
            <a:chExt cx="7120080" cy="1071720"/>
          </a:xfrm>
        </p:grpSpPr>
        <p:pic>
          <p:nvPicPr>
            <p:cNvPr id="341" name="Picture 3" descr=""/>
            <p:cNvPicPr/>
            <p:nvPr/>
          </p:nvPicPr>
          <p:blipFill>
            <a:blip r:embed="rId2"/>
            <a:stretch/>
          </p:blipFill>
          <p:spPr>
            <a:xfrm>
              <a:off x="880920" y="5774040"/>
              <a:ext cx="712008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Rectangle 6"/>
            <p:cNvSpPr/>
            <p:nvPr/>
          </p:nvSpPr>
          <p:spPr>
            <a:xfrm>
              <a:off x="880920" y="5715000"/>
              <a:ext cx="7072560" cy="107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343" name="Picture 1" descr="C:\Users\ferragin\Desktop\Picture1.png"/>
          <p:cNvPicPr/>
          <p:nvPr/>
        </p:nvPicPr>
        <p:blipFill>
          <a:blip r:embed="rId3"/>
          <a:stretch/>
        </p:blipFill>
        <p:spPr>
          <a:xfrm>
            <a:off x="5880240" y="3071880"/>
            <a:ext cx="3263760" cy="23004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5786280" y="3000240"/>
            <a:ext cx="3357720" cy="2357640"/>
          </a:xfrm>
          <a:prstGeom prst="rect">
            <a:avLst/>
          </a:prstGeom>
          <a:noFill/>
          <a:ln w="381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4071960" y="6202440"/>
            <a:ext cx="1913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m = </a:t>
            </a:r>
            <a:r>
              <a:rPr b="0" lang="it-IT" sz="3200" spc="-1" strike="noStrike">
                <a:solidFill>
                  <a:srgbClr val="c00000"/>
                </a:solidFill>
                <a:latin typeface="Symbol"/>
                <a:ea typeface="Symbol"/>
              </a:rPr>
              <a:t></a:t>
            </a: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In pract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760" y="1752120"/>
            <a:ext cx="80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simpl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hash func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2571840" y="2630520"/>
            <a:ext cx="305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9"/>
          <p:cNvGrpSpPr/>
          <p:nvPr/>
        </p:nvGrpSpPr>
        <p:grpSpPr>
          <a:xfrm>
            <a:off x="5628600" y="2916360"/>
            <a:ext cx="2058840" cy="581400"/>
            <a:chOff x="5628600" y="2916360"/>
            <a:chExt cx="2058840" cy="581400"/>
          </a:xfrm>
        </p:grpSpPr>
        <p:cxnSp>
          <p:nvCxnSpPr>
            <p:cNvPr id="350" name="Straight Arrow Connector 7"/>
            <p:cNvCxnSpPr/>
            <p:nvPr/>
          </p:nvCxnSpPr>
          <p:spPr>
            <a:xfrm flipH="1" flipV="1">
              <a:off x="5628600" y="3058200"/>
              <a:ext cx="786600" cy="3574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351" name="TextBox 8"/>
            <p:cNvSpPr/>
            <p:nvPr/>
          </p:nvSpPr>
          <p:spPr>
            <a:xfrm>
              <a:off x="6372720" y="291636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52" name="Rectangle 10"/>
          <p:cNvSpPr/>
          <p:nvPr/>
        </p:nvSpPr>
        <p:spPr>
          <a:xfrm>
            <a:off x="7429680" y="4643280"/>
            <a:ext cx="14256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3" name="Group 13"/>
          <p:cNvGrpSpPr/>
          <p:nvPr/>
        </p:nvGrpSpPr>
        <p:grpSpPr>
          <a:xfrm>
            <a:off x="1071720" y="4572000"/>
            <a:ext cx="7000560" cy="1143000"/>
            <a:chOff x="1071720" y="4572000"/>
            <a:chExt cx="7000560" cy="1143000"/>
          </a:xfrm>
        </p:grpSpPr>
        <p:pic>
          <p:nvPicPr>
            <p:cNvPr id="354" name="Picture 5" descr=""/>
            <p:cNvPicPr/>
            <p:nvPr/>
          </p:nvPicPr>
          <p:blipFill>
            <a:blip r:embed="rId2"/>
            <a:stretch/>
          </p:blipFill>
          <p:spPr>
            <a:xfrm>
              <a:off x="1176480" y="4652640"/>
              <a:ext cx="66103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12"/>
            <p:cNvSpPr/>
            <p:nvPr/>
          </p:nvSpPr>
          <p:spPr>
            <a:xfrm>
              <a:off x="1071720" y="4572000"/>
              <a:ext cx="7000560" cy="11430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it-IT" sz="40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i="1" lang="it-IT" sz="4000" spc="-1" strike="noStrike">
                <a:solidFill>
                  <a:srgbClr val="c00000"/>
                </a:solidFill>
                <a:latin typeface="Calibri"/>
              </a:rPr>
              <a:t>provably good” 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hashes exis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71680" y="480024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ach 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is selected at random in [0,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Group 21"/>
          <p:cNvGrpSpPr/>
          <p:nvPr/>
        </p:nvGrpSpPr>
        <p:grpSpPr>
          <a:xfrm>
            <a:off x="1428840" y="2357280"/>
            <a:ext cx="6000840" cy="642960"/>
            <a:chOff x="1428840" y="2357280"/>
            <a:chExt cx="6000840" cy="642960"/>
          </a:xfrm>
        </p:grpSpPr>
        <p:sp>
          <p:nvSpPr>
            <p:cNvPr id="359" name="Rectangle 3"/>
            <p:cNvSpPr/>
            <p:nvPr/>
          </p:nvSpPr>
          <p:spPr>
            <a:xfrm>
              <a:off x="1428840" y="235728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Rectangle 4"/>
            <p:cNvSpPr/>
            <p:nvPr/>
          </p:nvSpPr>
          <p:spPr>
            <a:xfrm>
              <a:off x="14288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Rectangle 5"/>
            <p:cNvSpPr/>
            <p:nvPr/>
          </p:nvSpPr>
          <p:spPr>
            <a:xfrm>
              <a:off x="22143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>
              <a:off x="30002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>
              <a:off x="66441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Straight Connector 14"/>
            <p:cNvSpPr/>
            <p:nvPr/>
          </p:nvSpPr>
          <p:spPr>
            <a:xfrm>
              <a:off x="4214880" y="264312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TextBox 15"/>
            <p:cNvSpPr/>
            <p:nvPr/>
          </p:nvSpPr>
          <p:spPr>
            <a:xfrm>
              <a:off x="1596240" y="2428560"/>
              <a:ext cx="44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TextBox 16"/>
            <p:cNvSpPr/>
            <p:nvPr/>
          </p:nvSpPr>
          <p:spPr>
            <a:xfrm>
              <a:off x="2439720" y="2428560"/>
              <a:ext cx="44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TextBox 17"/>
            <p:cNvSpPr/>
            <p:nvPr/>
          </p:nvSpPr>
          <p:spPr>
            <a:xfrm>
              <a:off x="3225600" y="2428560"/>
              <a:ext cx="44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TextBox 19"/>
            <p:cNvSpPr/>
            <p:nvPr/>
          </p:nvSpPr>
          <p:spPr>
            <a:xfrm>
              <a:off x="6824880" y="242856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1428840" y="1643040"/>
            <a:ext cx="1687320" cy="642960"/>
            <a:chOff x="1428840" y="1643040"/>
            <a:chExt cx="1687320" cy="642960"/>
          </a:xfrm>
        </p:grpSpPr>
        <p:sp>
          <p:nvSpPr>
            <p:cNvPr id="370" name="Left Brace 22"/>
            <p:cNvSpPr/>
            <p:nvPr/>
          </p:nvSpPr>
          <p:spPr>
            <a:xfrm rot="5400000">
              <a:off x="1643040" y="1714680"/>
              <a:ext cx="357120" cy="7855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9000 h 785520"/>
                <a:gd name="textAreaBottom" fmla="*/ 77652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TextBox 23"/>
            <p:cNvSpPr/>
            <p:nvPr/>
          </p:nvSpPr>
          <p:spPr>
            <a:xfrm>
              <a:off x="1763640" y="1643040"/>
              <a:ext cx="1352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00000"/>
                  </a:solidFill>
                  <a:latin typeface="Lucida Sans"/>
                </a:rPr>
                <a:t>≈</a:t>
              </a:r>
              <a:r>
                <a:rPr b="0" lang="it-IT" sz="2400" spc="-1" strike="noStrike">
                  <a:solidFill>
                    <a:srgbClr val="c00000"/>
                  </a:solidFill>
                  <a:latin typeface="Lucida Sans"/>
                </a:rPr>
                <a:t>log</a:t>
              </a:r>
              <a:r>
                <a:rPr b="0" lang="it-IT" sz="2400" spc="-1" strike="noStrike" baseline="-25000">
                  <a:solidFill>
                    <a:srgbClr val="c00000"/>
                  </a:solidFill>
                  <a:latin typeface="Lucida Sans"/>
                </a:rPr>
                <a:t>2</a:t>
              </a:r>
              <a:r>
                <a:rPr b="0" lang="it-IT" sz="2400" spc="-1" strike="noStrike">
                  <a:solidFill>
                    <a:srgbClr val="c00000"/>
                  </a:solidFill>
                  <a:latin typeface="Lucida Sans"/>
                </a:rPr>
                <a:t> m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2" name="TextBox 25"/>
          <p:cNvSpPr/>
          <p:nvPr/>
        </p:nvSpPr>
        <p:spPr>
          <a:xfrm>
            <a:off x="6108120" y="3214800"/>
            <a:ext cx="276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r ≈ log</a:t>
            </a:r>
            <a:r>
              <a:rPr b="0" lang="it-IT" sz="2400" spc="-1" strike="noStrike" baseline="-25000">
                <a:solidFill>
                  <a:srgbClr val="c00000"/>
                </a:solidFill>
                <a:latin typeface="Lucida Sans"/>
              </a:rPr>
              <a:t>2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 U / log</a:t>
            </a:r>
            <a:r>
              <a:rPr b="0" lang="it-IT" sz="2400" spc="-1" strike="noStrike" baseline="-25000">
                <a:solidFill>
                  <a:srgbClr val="c00000"/>
                </a:solidFill>
                <a:latin typeface="Lucida Sans"/>
              </a:rPr>
              <a:t>2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3" name="Group 26"/>
          <p:cNvGrpSpPr/>
          <p:nvPr/>
        </p:nvGrpSpPr>
        <p:grpSpPr>
          <a:xfrm>
            <a:off x="1428840" y="3929040"/>
            <a:ext cx="6000840" cy="642960"/>
            <a:chOff x="1428840" y="3929040"/>
            <a:chExt cx="6000840" cy="642960"/>
          </a:xfrm>
        </p:grpSpPr>
        <p:sp>
          <p:nvSpPr>
            <p:cNvPr id="374" name="Rectangle 27"/>
            <p:cNvSpPr/>
            <p:nvPr/>
          </p:nvSpPr>
          <p:spPr>
            <a:xfrm>
              <a:off x="1428840" y="392904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5" name="Rectangle 28"/>
            <p:cNvSpPr/>
            <p:nvPr/>
          </p:nvSpPr>
          <p:spPr>
            <a:xfrm>
              <a:off x="14288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22143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30002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66441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Straight Connector 32"/>
            <p:cNvSpPr/>
            <p:nvPr/>
          </p:nvSpPr>
          <p:spPr>
            <a:xfrm>
              <a:off x="4214880" y="421488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TextBox 33"/>
            <p:cNvSpPr/>
            <p:nvPr/>
          </p:nvSpPr>
          <p:spPr>
            <a:xfrm>
              <a:off x="1592280" y="4000320"/>
              <a:ext cx="45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TextBox 34"/>
            <p:cNvSpPr/>
            <p:nvPr/>
          </p:nvSpPr>
          <p:spPr>
            <a:xfrm>
              <a:off x="2435760" y="4000320"/>
              <a:ext cx="45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TextBox 35"/>
            <p:cNvSpPr/>
            <p:nvPr/>
          </p:nvSpPr>
          <p:spPr>
            <a:xfrm>
              <a:off x="3221640" y="4000320"/>
              <a:ext cx="45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TextBox 36"/>
            <p:cNvSpPr/>
            <p:nvPr/>
          </p:nvSpPr>
          <p:spPr>
            <a:xfrm>
              <a:off x="6821280" y="4000320"/>
              <a:ext cx="42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4" name="TextBox 40"/>
          <p:cNvSpPr/>
          <p:nvPr/>
        </p:nvSpPr>
        <p:spPr>
          <a:xfrm>
            <a:off x="664920" y="235728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Lucida San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Box 41"/>
          <p:cNvSpPr/>
          <p:nvPr/>
        </p:nvSpPr>
        <p:spPr>
          <a:xfrm>
            <a:off x="675360" y="39290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Lucida San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843280" y="5462640"/>
            <a:ext cx="39434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387" name="Group 37"/>
          <p:cNvGrpSpPr/>
          <p:nvPr/>
        </p:nvGrpSpPr>
        <p:grpSpPr>
          <a:xfrm>
            <a:off x="6714720" y="5786280"/>
            <a:ext cx="1899720" cy="642960"/>
            <a:chOff x="6714720" y="5786280"/>
            <a:chExt cx="1899720" cy="642960"/>
          </a:xfrm>
        </p:grpSpPr>
        <p:cxnSp>
          <p:nvCxnSpPr>
            <p:cNvPr id="388" name="Straight Arrow Connector 38"/>
            <p:cNvCxnSpPr/>
            <p:nvPr/>
          </p:nvCxnSpPr>
          <p:spPr>
            <a:xfrm flipH="1" flipV="1">
              <a:off x="6714720" y="6071760"/>
              <a:ext cx="786240" cy="35784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389" name="TextBox 39"/>
            <p:cNvSpPr/>
            <p:nvPr/>
          </p:nvSpPr>
          <p:spPr>
            <a:xfrm>
              <a:off x="7299720" y="578628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90" name="Rounded Rectangle 42"/>
          <p:cNvSpPr/>
          <p:nvPr/>
        </p:nvSpPr>
        <p:spPr>
          <a:xfrm>
            <a:off x="6215040" y="150012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U = universe of key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 = Tabl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Rounded Rectangle 43"/>
          <p:cNvSpPr/>
          <p:nvPr/>
        </p:nvSpPr>
        <p:spPr>
          <a:xfrm>
            <a:off x="4786200" y="6419880"/>
            <a:ext cx="4429080" cy="438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t necessarily: (...mod p) mod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ckoo Has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Rectangle 53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Rectangle 54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Rectangle 55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Rectangle 56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Rectangle 57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Rectangle 58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Rectangle 59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Rectangle 60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Rectangle 61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Rectangle 62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Rectangle 63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Rectangle 65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Rectangle 66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Rectangle 67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Rectangle 68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Rectangle 69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Rectangle 70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71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72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Rectangle 73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Rectangle 74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Rectangle 75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Rectangle 76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Rectangle 77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Rectangle 78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Rectangle 79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Line 80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Line 81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Line 82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Line 83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Line 84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Rectangle 35"/>
          <p:cNvSpPr/>
          <p:nvPr/>
        </p:nvSpPr>
        <p:spPr>
          <a:xfrm>
            <a:off x="285840" y="5857920"/>
            <a:ext cx="864396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ash tables, and </a:t>
            </a:r>
            <a:r>
              <a:rPr b="1" lang="it-IT" sz="24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andom choices where an item can be stor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Text Box 37"/>
          <p:cNvSpPr/>
          <p:nvPr/>
        </p:nvSpPr>
        <p:spPr>
          <a:xfrm>
            <a:off x="7079400" y="34956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7:33:46Z</dcterms:created>
  <dc:creator>Christopher Manning</dc:creator>
  <dc:description/>
  <dc:language>en-US</dc:language>
  <cp:lastModifiedBy>ferragin</cp:lastModifiedBy>
  <cp:lastPrinted>2009-09-27T15:38:04Z</cp:lastPrinted>
  <dcterms:modified xsi:type="dcterms:W3CDTF">2010-11-11T10:36:43Z</dcterms:modified>
  <cp:revision>356</cp:revision>
  <dc:subject/>
  <dc:title>Title</dc:title>
</cp:coreProperties>
</file>